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E4F-C122-4A98-9EDB-C45A8759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BF7-D553-441B-B4B1-34ED619D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33D-BFDB-4E40-999F-125FC249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B66-EEE7-4252-BE54-A35B9A42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9FD4-74FD-41F8-85C1-F7B2C1CA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D9F3-1DE7-4197-B71E-F56E7051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3470-5A7E-4C89-9A96-0D64B190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AEB7-49DD-418B-AB90-BEEA90B3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83E3-6BDD-4CF6-93FB-2D08A3F8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73436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CD56-684D-48F9-97F8-E92DA962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5F4F-FD67-43B4-858A-FD9E63CA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1EC-363B-4D4F-BD62-315D8BFC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3880-E28F-48E1-A425-59DD1CAB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4471-510E-4C3C-875F-0B349B95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D3F8-0CEB-4130-85AA-D38EA4AD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3514-CB36-4A14-8A7B-6BE328CB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B557-CBA8-40E9-9BF0-E9302341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394-4CCB-4F91-8B6E-A55B48A1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4D5-7070-49A1-8010-EDD8F581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067-6670-42C3-A4F5-FE151FFF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73436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A69-AA97-4F45-A356-E7C82C59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350-0AA9-4A85-9D4C-F23D30C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F26-7C0B-49F1-892A-F0D3AE2A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91B-5191-4C12-A75B-53FF88DA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SimHei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9EC1-97B1-4724-A3B0-19DA8D79F2D6}" type="datetime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763D-9FD9-483F-B672-E54685715504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SimHei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03E4-4ECE-4AF0-B5AC-C1027CFC80F9}" type="datetime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7917-632A-43AF-83FC-0FBED267665D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332000" y="3573360"/>
            <a:ext cx="4568760" cy="750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c0c0c"/>
                </a:solidFill>
                <a:latin typeface="宋体"/>
              </a:rPr>
              <a:t>中国的传统节日</a:t>
            </a:r>
            <a:endParaRPr b="0" lang="en-US" sz="2400" spc="1" strike="noStrike">
              <a:ln w="0">
                <a:noFill/>
              </a:ln>
              <a:solidFill>
                <a:srgbClr val="0c0c0c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43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冬至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0920" y="836640"/>
            <a:ext cx="439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冬至，是我国农历中一个非常重要的节气，也是一个传统节日， 至今仍有不少地方有过冬至节的习俗。冬至俗称“冬节”、“长至节”、“亚岁”等。早在二千五百多年前的春秋时代，我国已经用土圭观测太阳测定出冬至来了， 它是二十四节气中最早制订出的一个。时间在每年的阳历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12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月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22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日或者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23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日之间。 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　　　在我国古代对冬至很重视，冬至被当作一个较大节日，曾有“冬至大如年”的说法，而且有庆贺冬至的习俗。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《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汉书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》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中说：“冬至阳气起，君道长，故贺。”人们认为：过了冬至，白昼一天比一天长，阳气回升，是一个节气循环的开始，也是一个吉日，应该庆贺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12" name="Picture 4" descr="4437e612ec6b105cff5642.jpg"/>
          <p:cNvPicPr/>
          <p:nvPr/>
        </p:nvPicPr>
        <p:blipFill>
          <a:blip r:embed="rId2"/>
          <a:stretch/>
        </p:blipFill>
        <p:spPr>
          <a:xfrm>
            <a:off x="5553000" y="981000"/>
            <a:ext cx="3051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冬至节的风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4920" y="9810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冬至吃馄饨的风俗。早在南宋时，临安人就在冬至吃馄饨，是为了祭祀祖先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吃汤圆也是冬至的传统习俗，在江南尤为盛行。“汤圆”是冬至必备的食品，是一种用糯米粉制成的圆形甜品，“圆”意味着“团圆”“圆满”，冬至吃汤圆又叫 “冬至团”。民间有“吃了汤圆大一岁”之说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15" name="Picture 5" descr="26486.jpg"/>
          <p:cNvPicPr/>
          <p:nvPr/>
        </p:nvPicPr>
        <p:blipFill>
          <a:blip r:embed="rId2"/>
          <a:stretch/>
        </p:blipFill>
        <p:spPr>
          <a:xfrm>
            <a:off x="6437160" y="1197000"/>
            <a:ext cx="244188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U6684P1134DT20111221113415.jpg"/>
          <p:cNvPicPr/>
          <p:nvPr/>
        </p:nvPicPr>
        <p:blipFill>
          <a:blip r:embed="rId3"/>
          <a:stretch/>
        </p:blipFill>
        <p:spPr>
          <a:xfrm>
            <a:off x="4859280" y="3645000"/>
            <a:ext cx="244800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645160" y="4005360"/>
            <a:ext cx="1738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Arial"/>
                <a:ea typeface="SimHei"/>
              </a:rPr>
              <a:t>谢谢观赏！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SimHei"/>
              </a:rPr>
              <a:t>Thanks!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11280" y="333000"/>
            <a:ext cx="741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中国的传统节日形式多样，内容丰富，是我们中华民族悠久的历史 文化的一个组成部分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　　传统节日的形成过程，是一个民族或国家的历史文化长期积淀凝聚的过程，下面列举的这些节日，无一不是从远古发展过来的，从这些流传至今的节日风俗里， 还可以清晰地看到古代人民社会生活的精彩画面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中国的节日有很强的内聚力和广泛的包容性，一到过节，举国同 庆，这与我们民族源远流长的悠久历史一脉相承，是一份宝贵的精神文化遗产。</a:t>
            </a:r>
            <a:br>
              <a:rPr sz="1700"/>
            </a:br>
            <a:br>
              <a:rPr sz="1700"/>
            </a:b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　　这里所介绍只是汉民族的一些较大的传统节日，我国是个多民族的国家，各民族都有自己的文化习俗，众多的民族节日，是一份有待挖掘的文化宝藏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3640" y="259920"/>
            <a:ext cx="19447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春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764640"/>
            <a:ext cx="44323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  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春节，是农历正月初一，又叫阴历年，俗称“过年”。这是 我国民间最隆重、最热闹的一个传统节日。春节的历史很悠久，它起源于殷商时期年头岁尾的祭神祭祖活动。按照我国农历，正月初一古称元日、元辰、元正、元 朔、元旦等，俗称年初一，到了民国时期，改用公历，公历的一月一日称为元旦，把农历的一月一日叫春节。 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　　春节到了，意味着春天将要来临，万象复苏草木更新，新一轮播种和收获季节又要开始。人们刚刚度过冰天雪地草木凋零的漫漫寒冬，早就盼望着春暖花开的日 子，当新春到来之际，自然要充满喜悦载歌载舞地迎接这个节日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86" name="Picture 4" descr="2012022822304703.jpg"/>
          <p:cNvPicPr/>
          <p:nvPr/>
        </p:nvPicPr>
        <p:blipFill>
          <a:blip r:embed="rId2"/>
          <a:stretch/>
        </p:blipFill>
        <p:spPr>
          <a:xfrm>
            <a:off x="5435640" y="1052640"/>
            <a:ext cx="3355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35640" y="115560"/>
            <a:ext cx="3456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c0c0c"/>
                </a:solidFill>
                <a:latin typeface="SimHei"/>
              </a:rPr>
              <a:t>春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333000"/>
            <a:ext cx="518472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扫尘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其用意是要把一切穷运、晦气统统扫出门。这一习俗寄托着人们破旧立新的愿望和辞旧迎新的祈求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贴窗花和倒贴“福”字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“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福”字指福气、福运，寄托了人们对幸福生活的向往，对美好未来的祝愿。为了更充分地体现这种向往和祝愿， 有的人干脆将“福”字倒过来贴，表示“幸福已到”“福气已到”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守岁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全家团聚在一起，吃过年夜饭，点起蜡烛或油灯，围坐炉旁闲聊，等着辞旧迎新的时刻，通宵守夜，象征着把一切 邪瘟病疫照跑驱走，期待着新的一年吉祥如意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89" name="Picture 3" descr="2008124164939590.jpg"/>
          <p:cNvPicPr/>
          <p:nvPr/>
        </p:nvPicPr>
        <p:blipFill>
          <a:blip r:embed="rId2"/>
          <a:stretch/>
        </p:blipFill>
        <p:spPr>
          <a:xfrm>
            <a:off x="601200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0100304125645536.jpg"/>
          <p:cNvPicPr/>
          <p:nvPr/>
        </p:nvPicPr>
        <p:blipFill>
          <a:blip r:embed="rId3"/>
          <a:stretch/>
        </p:blipFill>
        <p:spPr>
          <a:xfrm>
            <a:off x="6012000" y="2924280"/>
            <a:ext cx="2520720" cy="196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008124164916148.jpg"/>
          <p:cNvPicPr/>
          <p:nvPr/>
        </p:nvPicPr>
        <p:blipFill>
          <a:blip r:embed="rId4"/>
          <a:stretch/>
        </p:blipFill>
        <p:spPr>
          <a:xfrm>
            <a:off x="6012000" y="4941720"/>
            <a:ext cx="2520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_5635726_5__1552137816.jpg"/>
          <p:cNvPicPr/>
          <p:nvPr/>
        </p:nvPicPr>
        <p:blipFill>
          <a:blip r:embed="rId2"/>
          <a:stretch/>
        </p:blipFill>
        <p:spPr>
          <a:xfrm>
            <a:off x="5796000" y="1052640"/>
            <a:ext cx="2995560" cy="43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49600" y="115560"/>
            <a:ext cx="2087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端午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4920" y="1052640"/>
            <a:ext cx="460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农历五月初五，是中国民间的传统节日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——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，它是中华民 族古老的传统节日之一。端午节为每年农历五 月初五，又称端阳 节、午日节、五月节等；端午节是中国汉族人民纪念屈原的传统节日，更有吃粽子，赛龙舟，挂菖蒲、蒿草、艾叶，薰苍术、白芷， 喝雄黄酒的 习俗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6247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端午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196640"/>
            <a:ext cx="4792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赛龙舟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賽龙舟，是端午节的主要习俗。相传起源于古时楚国人因舍不得贤臣屈原投江死去，许多人划船追赶拯救。他们 争先恐后，追至洞庭湖时不见踪迹。之后每年五月五日划龙舟以纪念之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端午食粽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吃粽子，这是中国人民的又一传统习俗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佩香囊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小孩佩香囊，传说有避邪驱瘟之意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97" name="Picture 3" descr="16841354.jpg"/>
          <p:cNvPicPr/>
          <p:nvPr/>
        </p:nvPicPr>
        <p:blipFill>
          <a:blip r:embed="rId2"/>
          <a:stretch/>
        </p:blipFill>
        <p:spPr>
          <a:xfrm>
            <a:off x="6084720" y="981000"/>
            <a:ext cx="2552760" cy="2952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0534135.jpg"/>
          <p:cNvPicPr/>
          <p:nvPr/>
        </p:nvPicPr>
        <p:blipFill>
          <a:blip r:embed="rId3"/>
          <a:stretch/>
        </p:blipFill>
        <p:spPr>
          <a:xfrm>
            <a:off x="4994280" y="4221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6720" y="259920"/>
            <a:ext cx="23032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七夕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0920" y="1022040"/>
            <a:ext cx="43923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在我国，农历七月初七的夜晚，天气温暖，草木飘香，这就是人 们俗称的七夕节，也有人称之为“乞巧节”或“女儿节”，这是中国传统节日中最具浪漫色彩的一个节日，也是过去姑娘们最为重视的日子。七夕节”又被人称为中国的“情人节”。</a:t>
            </a: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关于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牛郎织女的传说，这是一个很美丽，千古流传的爱情故事，是我国四大民间爱情传说之一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1" name="Picture 4" descr="F2004081819153901248.jpg"/>
          <p:cNvPicPr/>
          <p:nvPr/>
        </p:nvPicPr>
        <p:blipFill>
          <a:blip r:embed="rId2"/>
          <a:stretch/>
        </p:blipFill>
        <p:spPr>
          <a:xfrm>
            <a:off x="5673600" y="1413000"/>
            <a:ext cx="3002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80000" y="115560"/>
            <a:ext cx="266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中秋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0920" y="549000"/>
            <a:ext cx="4537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每年农历八月十五日，是传统的中秋佳节。这时是一年秋季的中 期，所以被称为中秋。在中国的农历里，一年分为四季，每季又分为孟、仲、季三个部分，因而中秋也称仲秋。八月十五的月亮比其他几个月的满月更圆，更明亮， 所以又叫做“月夕”，“八月节”。此夜，人们仰望天空如玉如盘的朗朗明月，自然会期盼家人团聚。远在他乡的游子，也借此寄托自己对故乡和亲人的思念之情。 所以，中秋又称“团圆节”。 　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4" name="Picture 3" descr="21684.jpg"/>
          <p:cNvPicPr/>
          <p:nvPr/>
        </p:nvPicPr>
        <p:blipFill>
          <a:blip r:embed="rId2"/>
          <a:stretch/>
        </p:blipFill>
        <p:spPr>
          <a:xfrm>
            <a:off x="5580000" y="907920"/>
            <a:ext cx="302436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中秋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25360"/>
            <a:ext cx="4359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赏月</a:t>
            </a: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祭拜月神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吃月饼 </a:t>
            </a: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2000" spc="-1" strike="noStrike">
                <a:solidFill>
                  <a:srgbClr val="0c0c0c"/>
                </a:solidFill>
                <a:latin typeface="SimHei"/>
              </a:rPr>
              <a:t>寓意家人团圆的象征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SimHei"/>
              </a:rPr>
              <a:t>许多地方形成了烧斗香、树中秋、点塔灯、放天灯、走月亮、舞火龙等特殊风俗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7" name="Picture 3" descr="240px-Montreal_JBotanique2_tango7174.jpg"/>
          <p:cNvPicPr/>
          <p:nvPr/>
        </p:nvPicPr>
        <p:blipFill>
          <a:blip r:embed="rId2"/>
          <a:stretch/>
        </p:blipFill>
        <p:spPr>
          <a:xfrm>
            <a:off x="2700360" y="3500280"/>
            <a:ext cx="2087640" cy="278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W020080913338099754930.jpg"/>
          <p:cNvPicPr/>
          <p:nvPr/>
        </p:nvPicPr>
        <p:blipFill>
          <a:blip r:embed="rId3"/>
          <a:stretch/>
        </p:blipFill>
        <p:spPr>
          <a:xfrm>
            <a:off x="5148360" y="907920"/>
            <a:ext cx="3809880" cy="267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8ac6f27b02e0dfbcb2c2b.jpg"/>
          <p:cNvPicPr/>
          <p:nvPr/>
        </p:nvPicPr>
        <p:blipFill>
          <a:blip r:embed="rId4"/>
          <a:stretch/>
        </p:blipFill>
        <p:spPr>
          <a:xfrm>
            <a:off x="5435640" y="3933720"/>
            <a:ext cx="25081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/>
  <dc:description/>
  <cp:keywords/>
  <dc:language>en-US</dc:language>
  <cp:lastModifiedBy>Mary Simone</cp:lastModifiedBy>
  <cp:lastPrinted>1899-12-30T00:00:00Z</cp:lastPrinted>
  <dcterms:modified xsi:type="dcterms:W3CDTF">2012-07-11T20:21:56Z</dcterms:modified>
  <cp:revision>1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</Properties>
</file>