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7CD-42CD-4A81-9D05-8530270C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9F2-22AC-48F2-BA21-F6FB572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8A1-EA02-4FB5-943D-A713ADD8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CBE-6149-489B-B9AA-5EB5B477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0FFC-8D32-46C1-80B2-F8D3F861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351A-C334-43D5-8E42-39AD461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B7CA-950E-4B6C-9217-09C5D570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8402-96A2-43F8-B7DC-E3DA671A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7B2D-36D2-435D-A9DB-7163A095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16F-EECD-4506-A047-D6DF5C4C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8402-3AB9-409F-B0E6-B9875780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953-9DA2-4445-B807-8E7295F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F125-12CE-40D9-A35C-C837562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DB46-1935-4225-A02E-9360FBEC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71BD-391B-48DC-AAD8-C60735AB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0811-B3AF-4722-8EAE-8017892B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CBEE-6436-4428-A18B-378896BC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CFB-B60D-4183-8CEA-190488D1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7A3-7EFC-47DC-9621-3356781E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F2E-8CE3-4B50-86DE-37462DB3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DED-834D-49E0-B65F-77B2AC62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584-F611-472F-8336-5859845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720-E70C-4E07-8DE5-060747D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492-FFC5-4381-8589-E911BD68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SimHei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D95-510C-410F-B8F4-DD82614DCDD0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FD0-8CD9-43E5-8666-C4CD40B390FC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SimHei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8CD-35C5-4B84-91D2-D2970F6094C2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2072-9B15-446C-90C1-3F752B717AB7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332000" y="3573360"/>
            <a:ext cx="4568760" cy="750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c0c0c"/>
                </a:solidFill>
                <a:latin typeface="宋体"/>
              </a:rPr>
              <a:t>中国的传统节日</a:t>
            </a:r>
            <a:endParaRPr b="0" lang="en-US" sz="2400" spc="1" strike="noStrike">
              <a:ln w="0">
                <a:noFill/>
              </a:ln>
              <a:solidFill>
                <a:srgbClr val="0c0c0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43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冬至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0920" y="836640"/>
            <a:ext cx="439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冬至，是我国农历中一个非常重要的节气，也是一个传统节日， 至今仍有不少地方有过冬至节的习俗。冬至俗称“冬节”、“长至节”、“亚岁”等。早在二千五百多年前的春秋时代，我国已经用土圭观测太阳测定出冬至来了， 它是二十四节气中最早制订出的一个。时间在每年的阳历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12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月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22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日或者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23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日之间。 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　　　在我国古代对冬至很重视，冬至被当作一个较大节日，曾有“冬至大如年”的说法，而且有庆贺冬至的习俗。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《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汉书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》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中说：“冬至阳气起，君道长，故贺。”人们认为：过了冬至，白昼一天比一天长，阳气回升，是一个节气循环的开始，也是一个吉日，应该庆贺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12" name="Picture 4" descr="4437e612ec6b105cff5642.jpg"/>
          <p:cNvPicPr/>
          <p:nvPr/>
        </p:nvPicPr>
        <p:blipFill>
          <a:blip r:embed="rId2"/>
          <a:stretch/>
        </p:blipFill>
        <p:spPr>
          <a:xfrm>
            <a:off x="5553000" y="981000"/>
            <a:ext cx="3051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冬至节的风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4920" y="9810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冬至吃馄饨的风俗。早在南宋时，临安人就在冬至吃馄饨，是为了祭祀祖先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吃汤圆也是冬至的传统习俗，在江南尤为盛行。“汤圆”是冬至必备的食品，是一种用糯米粉制成的圆形甜品，“圆”意味着“团圆”“圆满”，冬至吃汤圆又叫 “冬至团”。民间有“吃了汤圆大一岁”之说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15" name="Picture 5" descr="26486.jpg"/>
          <p:cNvPicPr/>
          <p:nvPr/>
        </p:nvPicPr>
        <p:blipFill>
          <a:blip r:embed="rId2"/>
          <a:stretch/>
        </p:blipFill>
        <p:spPr>
          <a:xfrm>
            <a:off x="6437160" y="1197000"/>
            <a:ext cx="244188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U6684P1134DT20111221113415.jpg"/>
          <p:cNvPicPr/>
          <p:nvPr/>
        </p:nvPicPr>
        <p:blipFill>
          <a:blip r:embed="rId3"/>
          <a:stretch/>
        </p:blipFill>
        <p:spPr>
          <a:xfrm>
            <a:off x="4859280" y="3645000"/>
            <a:ext cx="24480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645160" y="4005360"/>
            <a:ext cx="1738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SimHei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SimHei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11280" y="333000"/>
            <a:ext cx="741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中国的传统节日形式多样，内容丰富，是我们中华民族悠久的历史 文化的一个组成部分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　　传统节日的形成过程，是一个民族或国家的历史文化长期积淀凝聚的过程，下面列举的这些节日，无一不是从远古发展过来的，从这些流传至今的节日风俗里， 还可以清晰地看到古代人民社会生活的精彩画面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中国的节日有很强的内聚力和广泛的包容性，一到过节，举国同 庆，这与我们民族源远流长的悠久历史一脉相承，是一份宝贵的精神文化遗产。</a:t>
            </a:r>
            <a:br>
              <a:rPr sz="1700"/>
            </a:br>
            <a:br>
              <a:rPr sz="1700"/>
            </a:b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　　这里所介绍只是汉民族的一些较大的传统节日，我国是个多民族的国家，各民族都有自己的文化习俗，众多的民族节日，是一份有待挖掘的文化宝藏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3640" y="259920"/>
            <a:ext cx="1944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春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764640"/>
            <a:ext cx="44323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  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春节，是农历正月初一，又叫阴历年，俗称“过年”。这是 我国民间最隆重、最热闹的一个传统节日。春节的历史很悠久，它起源于殷商时期年头岁尾的祭神祭祖活动。按照我国农历，正月初一古称元日、元辰、元正、元 朔、元旦等，俗称年初一，到了民国时期，改用公历，公历的一月一日称为元旦，把农历的一月一日叫春节。 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　　春节到了，意味着春天将要来临，万象复苏草木更新，新一轮播种和收获季节又要开始。人们刚刚度过冰天雪地草木凋零的漫漫寒冬，早就盼望着春暖花开的日 子，当新春到来之际，自然要充满喜悦载歌载舞地迎接这个节日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86" name="Picture 4" descr="2012022822304703.jpg"/>
          <p:cNvPicPr/>
          <p:nvPr/>
        </p:nvPicPr>
        <p:blipFill>
          <a:blip r:embed="rId2"/>
          <a:stretch/>
        </p:blipFill>
        <p:spPr>
          <a:xfrm>
            <a:off x="5435640" y="1052640"/>
            <a:ext cx="3355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35640" y="115560"/>
            <a:ext cx="3456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c0c0c"/>
                </a:solidFill>
                <a:latin typeface="SimHei"/>
              </a:rPr>
              <a:t>春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333000"/>
            <a:ext cx="518472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扫尘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其用意是要把一切穷运、晦气统统扫出门。这一习俗寄托着人们破旧立新的愿望和辞旧迎新的祈求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贴窗花和倒贴“福”字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“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福”字指福气、福运，寄托了人们对幸福生活的向往，对美好未来的祝愿。为了更充分地体现这种向往和祝愿， 有的人干脆将“福”字倒过来贴，表示“幸福已到”“福气已到”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守岁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全家团聚在一起，吃过年夜饭，点起蜡烛或油灯，围坐炉旁闲聊，等着辞旧迎新的时刻，通宵守夜，象征着把一切 邪瘟病疫照跑驱走，期待着新的一年吉祥如意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89" name="Picture 3" descr="2008124164939590.jpg"/>
          <p:cNvPicPr/>
          <p:nvPr/>
        </p:nvPicPr>
        <p:blipFill>
          <a:blip r:embed="rId2"/>
          <a:stretch/>
        </p:blipFill>
        <p:spPr>
          <a:xfrm>
            <a:off x="601200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0100304125645536.jpg"/>
          <p:cNvPicPr/>
          <p:nvPr/>
        </p:nvPicPr>
        <p:blipFill>
          <a:blip r:embed="rId3"/>
          <a:stretch/>
        </p:blipFill>
        <p:spPr>
          <a:xfrm>
            <a:off x="6012000" y="2924280"/>
            <a:ext cx="2520720" cy="19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08124164916148.jpg"/>
          <p:cNvPicPr/>
          <p:nvPr/>
        </p:nvPicPr>
        <p:blipFill>
          <a:blip r:embed="rId4"/>
          <a:stretch/>
        </p:blipFill>
        <p:spPr>
          <a:xfrm>
            <a:off x="6012000" y="4941720"/>
            <a:ext cx="2520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_5635726_5__1552137816.jpg"/>
          <p:cNvPicPr/>
          <p:nvPr/>
        </p:nvPicPr>
        <p:blipFill>
          <a:blip r:embed="rId2"/>
          <a:stretch/>
        </p:blipFill>
        <p:spPr>
          <a:xfrm>
            <a:off x="5796000" y="1052640"/>
            <a:ext cx="2995560" cy="43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49600" y="115560"/>
            <a:ext cx="2087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端午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4920" y="1052640"/>
            <a:ext cx="460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农历五月初五，是中国民间的传统节日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——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，它是中华民 族古老的传统节日之一。端午节为每年农历五 月初五，又称端阳 节、午日节、五月节等；端午节是中国汉族人民纪念屈原的传统节日，更有吃粽子，赛龙舟，挂菖蒲、蒿草、艾叶，薰苍术、白芷， 喝雄黄酒的 习俗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624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端午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196640"/>
            <a:ext cx="4792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赛龙舟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賽龙舟，是端午节的主要习俗。相传起源于古时楚国人因舍不得贤臣屈原投江死去，许多人划船追赶拯救。他们 争先恐后，追至洞庭湖时不见踪迹。之后每年五月五日划龙舟以纪念之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端午食粽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吃粽子，这是中国人民的又一传统习俗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佩香囊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小孩佩香囊，传说有避邪驱瘟之意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97" name="Picture 3" descr="16841354.jpg"/>
          <p:cNvPicPr/>
          <p:nvPr/>
        </p:nvPicPr>
        <p:blipFill>
          <a:blip r:embed="rId2"/>
          <a:stretch/>
        </p:blipFill>
        <p:spPr>
          <a:xfrm>
            <a:off x="6084720" y="981000"/>
            <a:ext cx="2552760" cy="295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0534135.jpg"/>
          <p:cNvPicPr/>
          <p:nvPr/>
        </p:nvPicPr>
        <p:blipFill>
          <a:blip r:embed="rId3"/>
          <a:stretch/>
        </p:blipFill>
        <p:spPr>
          <a:xfrm>
            <a:off x="4994280" y="42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6720" y="259920"/>
            <a:ext cx="2303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七夕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0920" y="1022040"/>
            <a:ext cx="4392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在我国，农历七月初七的夜晚，天气温暖，草木飘香，这就是人 们俗称的七夕节，也有人称之为“乞巧节”或“女儿节”，这是中国传统节日中最具浪漫色彩的一个节日，也是过去姑娘们最为重视的日子。七夕节”又被人称为中国的“情人节”。</a:t>
            </a: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关于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牛郎织女的传说，这是一个很美丽，千古流传的爱情故事，是我国四大民间爱情传说之一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1" name="Picture 4" descr="F2004081819153901248.jpg"/>
          <p:cNvPicPr/>
          <p:nvPr/>
        </p:nvPicPr>
        <p:blipFill>
          <a:blip r:embed="rId2"/>
          <a:stretch/>
        </p:blipFill>
        <p:spPr>
          <a:xfrm>
            <a:off x="5673600" y="1413000"/>
            <a:ext cx="3002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0000" y="115560"/>
            <a:ext cx="266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中秋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0920" y="549000"/>
            <a:ext cx="4537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每年农历八月十五日，是传统的中秋佳节。这时是一年秋季的中 期，所以被称为中秋。在中国的农历里，一年分为四季，每季又分为孟、仲、季三个部分，因而中秋也称仲秋。八月十五的月亮比其他几个月的满月更圆，更明亮， 所以又叫做“月夕”，“八月节”。此夜，人们仰望天空如玉如盘的朗朗明月，自然会期盼家人团聚。远在他乡的游子，也借此寄托自己对故乡和亲人的思念之情。 所以，中秋又称“团圆节”。 　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4" name="Picture 3" descr="21684.jpg"/>
          <p:cNvPicPr/>
          <p:nvPr/>
        </p:nvPicPr>
        <p:blipFill>
          <a:blip r:embed="rId2"/>
          <a:stretch/>
        </p:blipFill>
        <p:spPr>
          <a:xfrm>
            <a:off x="5580000" y="907920"/>
            <a:ext cx="302436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中秋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25360"/>
            <a:ext cx="4359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赏月</a:t>
            </a: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祭拜月神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吃月饼 </a:t>
            </a: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2000" spc="-1" strike="noStrike">
                <a:solidFill>
                  <a:srgbClr val="0c0c0c"/>
                </a:solidFill>
                <a:latin typeface="SimHei"/>
              </a:rPr>
              <a:t>寓意家人团圆的象征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SimHei"/>
              </a:rPr>
              <a:t>许多地方形成了烧斗香、树中秋、点塔灯、放天灯、走月亮、舞火龙等特殊风俗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7" name="Picture 3" descr="240px-Montreal_JBotanique2_tango7174.jpg"/>
          <p:cNvPicPr/>
          <p:nvPr/>
        </p:nvPicPr>
        <p:blipFill>
          <a:blip r:embed="rId2"/>
          <a:stretch/>
        </p:blipFill>
        <p:spPr>
          <a:xfrm>
            <a:off x="2700360" y="3500280"/>
            <a:ext cx="2087640" cy="278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W020080913338099754930.jpg"/>
          <p:cNvPicPr/>
          <p:nvPr/>
        </p:nvPicPr>
        <p:blipFill>
          <a:blip r:embed="rId3"/>
          <a:stretch/>
        </p:blipFill>
        <p:spPr>
          <a:xfrm>
            <a:off x="5148360" y="907920"/>
            <a:ext cx="38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8ac6f27b02e0dfbcb2c2b.jpg"/>
          <p:cNvPicPr/>
          <p:nvPr/>
        </p:nvPicPr>
        <p:blipFill>
          <a:blip r:embed="rId4"/>
          <a:stretch/>
        </p:blipFill>
        <p:spPr>
          <a:xfrm>
            <a:off x="5435640" y="3933720"/>
            <a:ext cx="25081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/>
  <dc:description/>
  <cp:keywords/>
  <dc:language>en-US</dc:language>
  <cp:lastModifiedBy>Mary Simone</cp:lastModifiedBy>
  <cp:lastPrinted>1899-12-30T00:00:00Z</cp:lastPrinted>
  <dcterms:modified xsi:type="dcterms:W3CDTF">2012-07-11T20:21:56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</Properties>
</file>