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81040" y="177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39760"/>
            <a:ext cx="264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177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9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976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5"/>
          <p:cNvGrpSpPr/>
          <p:nvPr/>
        </p:nvGrpSpPr>
        <p:grpSpPr>
          <a:xfrm>
            <a:off x="212760" y="781200"/>
            <a:ext cx="8712000" cy="5832360"/>
            <a:chOff x="212760" y="781200"/>
            <a:chExt cx="8712000" cy="5832360"/>
          </a:xfrm>
        </p:grpSpPr>
        <p:pic>
          <p:nvPicPr>
            <p:cNvPr id="4" name="矩形 10" descr=""/>
            <p:cNvPicPr/>
            <p:nvPr/>
          </p:nvPicPr>
          <p:blipFill>
            <a:blip r:embed="rId5"/>
            <a:stretch/>
          </p:blipFill>
          <p:spPr>
            <a:xfrm>
              <a:off x="212760" y="781200"/>
              <a:ext cx="871200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7"/>
            <p:cNvSpPr/>
            <p:nvPr/>
          </p:nvSpPr>
          <p:spPr>
            <a:xfrm>
              <a:off x="275760" y="819360"/>
              <a:ext cx="8591400" cy="57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07.png"/>
          <p:cNvPicPr/>
          <p:nvPr/>
        </p:nvPicPr>
        <p:blipFill>
          <a:blip r:embed="rId3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E:\新模板\国粹\04.png"/>
          <p:cNvPicPr/>
          <p:nvPr/>
        </p:nvPicPr>
        <p:blipFill>
          <a:blip r:embed="rId4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733920" y="1800360"/>
            <a:ext cx="504828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特色食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梅菜扣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37760"/>
            <a:ext cx="403848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取 出铁碗，扣上一个盘子，然后上下一翻，肉就扣在盘子里了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梅菜扣肉”肥而不腻、肉片酥烂、咸中带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4" descr="9.jpg"/>
          <p:cNvPicPr/>
          <p:nvPr/>
        </p:nvPicPr>
        <p:blipFill>
          <a:blip r:embed="rId1"/>
          <a:stretch/>
        </p:blipFill>
        <p:spPr>
          <a:xfrm>
            <a:off x="4648320" y="2075040"/>
            <a:ext cx="4038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1040" y="1807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梅菜扣肉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1.jpg"/>
          <p:cNvPicPr/>
          <p:nvPr/>
        </p:nvPicPr>
        <p:blipFill>
          <a:blip r:embed="rId1"/>
          <a:stretch/>
        </p:blipFill>
        <p:spPr>
          <a:xfrm>
            <a:off x="4233960" y="1162080"/>
            <a:ext cx="4495680" cy="4110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409680" y="1562040"/>
            <a:ext cx="3714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原材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五花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、梅干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、豆豉适量、大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段、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、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瓣、冰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块、花椒少量、八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、蜂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调味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料：料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料：花生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勺、老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料：花生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勺、老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勺、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勺、盐、鸡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勺、水淀粉适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4000" spc="-1" strike="noStrike">
                <a:solidFill>
                  <a:srgbClr val="000000"/>
                </a:solidFill>
                <a:latin typeface="Calibri"/>
              </a:rPr>
              <a:t>做法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37760"/>
            <a:ext cx="403848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先煮肉，做扣肉必用五花肉。煮肉的水里放入了料酒、姜片、花椒、大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5" descr="2.jpg"/>
          <p:cNvPicPr/>
          <p:nvPr/>
        </p:nvPicPr>
        <p:blipFill>
          <a:blip r:embed="rId1"/>
          <a:stretch/>
        </p:blipFill>
        <p:spPr>
          <a:xfrm>
            <a:off x="4438800" y="1971720"/>
            <a:ext cx="42037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360" y="1638000"/>
            <a:ext cx="403848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分钟左右捞出备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4" descr="3.jpg"/>
          <p:cNvPicPr/>
          <p:nvPr/>
        </p:nvPicPr>
        <p:blipFill>
          <a:blip r:embed="rId1"/>
          <a:stretch/>
        </p:blipFill>
        <p:spPr>
          <a:xfrm>
            <a:off x="4648320" y="1973160"/>
            <a:ext cx="403848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6200" y="1843200"/>
            <a:ext cx="403884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准备炸肉皮，需要蜂蜜一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4" descr="4.jpg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37760"/>
            <a:ext cx="403848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肉皮表面抹上一层蜂蜜，然后下油锅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注意：炸的时候动静非常大，就是说小爆炸会时常发生。步骤是关火放肉－开文火炸－迅速闪人－关火－夹肉。 不炸肉皮也可以，这样蒸出来的扣肉肉皮没有褶，颜色也不诱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4" descr="5.jpg"/>
          <p:cNvPicPr/>
          <p:nvPr/>
        </p:nvPicPr>
        <p:blipFill>
          <a:blip r:embed="rId1"/>
          <a:stretch/>
        </p:blipFill>
        <p:spPr>
          <a:xfrm>
            <a:off x="4648320" y="2100240"/>
            <a:ext cx="40384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61600"/>
            <a:ext cx="4038480" cy="41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梅菜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浸泡好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洗干净，剁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4" descr="6.jpg"/>
          <p:cNvPicPr/>
          <p:nvPr/>
        </p:nvPicPr>
        <p:blipFill>
          <a:blip r:embed="rId1"/>
          <a:stretch/>
        </p:blipFill>
        <p:spPr>
          <a:xfrm>
            <a:off x="4648320" y="1941480"/>
            <a:ext cx="40384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4360" y="1471680"/>
            <a:ext cx="40388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肉肉切薄片，肉皮朝下整齐的码在不锈钢碗中（铁制容器蒸熟的快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ontent Placeholder 4" descr="7.jpg"/>
          <p:cNvPicPr/>
          <p:nvPr/>
        </p:nvPicPr>
        <p:blipFill>
          <a:blip r:embed="rId1"/>
          <a:stretch/>
        </p:blipFill>
        <p:spPr>
          <a:xfrm>
            <a:off x="4648320" y="1919160"/>
            <a:ext cx="403848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1040" y="17784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37760"/>
            <a:ext cx="403848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然后把梅菜盖在肉片上，填缝、压实，浇上事先准备好的料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料汁做法：酱油、冰糖、盐、鸡精、大料、加一点水煮开即成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开蒸，普通锅蒸一个半小时以上，高压锅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分钟就好了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4" descr="8.jpg"/>
          <p:cNvPicPr/>
          <p:nvPr/>
        </p:nvPicPr>
        <p:blipFill>
          <a:blip r:embed="rId1"/>
          <a:stretch/>
        </p:blipFill>
        <p:spPr>
          <a:xfrm>
            <a:off x="4648320" y="2022480"/>
            <a:ext cx="40384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/>
  <dc:description/>
  <cp:keywords/>
  <dc:language>en-US</dc:language>
  <cp:lastModifiedBy>Mary Simone</cp:lastModifiedBy>
  <cp:lastPrinted>1899-12-30T00:00:00Z</cp:lastPrinted>
  <dcterms:modified xsi:type="dcterms:W3CDTF">2012-07-11T20:22:12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