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6146-8114-430C-B91C-DA1566BB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673-1959-4C46-9D0A-0E6418E5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F6E-CF10-4FBC-8EF0-0A3A29D6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D57C-8ADF-49D7-A1A3-66BEBECC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D0A-A2FB-4CD4-85FA-C81F4291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84A7-B370-4F37-BA2B-BDFD9DF9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FC05-C682-49C7-9988-CC090844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ADE-AED0-4A4C-A4A4-D445D956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9069-8897-4DB8-AFF1-3F040B61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00D-D578-4967-93B6-11FF7A77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18D-D43B-4729-B547-AE88ECC0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C88-2316-43B4-BB38-D0B70437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Administrator\桌面\34.jpg"/>
          <p:cNvPicPr/>
          <p:nvPr/>
        </p:nvPicPr>
        <p:blipFill>
          <a:blip r:embed="rId2"/>
          <a:srcRect l="3905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2e04"/>
                </a:solidFill>
                <a:latin typeface="时尚中黑简体"/>
              </a:rPr>
              <a:t>Click to edit the title text format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3D1D-A0ED-46F9-AEA5-475B4551797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902E-659E-47ED-8679-FF2D1BA884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Administrator\桌面\ZCOOL_Floral Templates2.jpg"/>
          <p:cNvPicPr/>
          <p:nvPr/>
        </p:nvPicPr>
        <p:blipFill>
          <a:blip r:embed="rId1"/>
          <a:srcRect l="0" t="0" r="4479" b="0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4859280" y="5084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02e04"/>
                </a:solidFill>
                <a:latin typeface="时尚中黑简体"/>
                <a:ea typeface="时尚中黑简体"/>
              </a:rPr>
              <a:t>阅读文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 rot="21123000">
            <a:off x="650520" y="20491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02e04"/>
                </a:solidFill>
                <a:latin typeface="时尚中黑简体"/>
                <a:ea typeface="时尚中黑简体"/>
              </a:rPr>
              <a:t>  </a:t>
            </a:r>
            <a:r>
              <a:rPr b="0" lang="zh-CN" sz="4400" spc="-1" strike="noStrike">
                <a:solidFill>
                  <a:srgbClr val="602e04"/>
                </a:solidFill>
                <a:latin typeface="时尚中黑简体"/>
                <a:ea typeface="时尚中黑简体"/>
              </a:rPr>
              <a:t>学生日记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072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2009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年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9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月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2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日 </a:t>
            </a:r>
            <a:br>
              <a:rPr sz="2000"/>
            </a:b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 </a:t>
            </a:r>
            <a:r>
              <a:rPr b="0" lang="zh-CN" sz="3200" spc="-1" strike="noStrike">
                <a:solidFill>
                  <a:srgbClr val="602e04"/>
                </a:solidFill>
                <a:latin typeface="时尚中黑简体"/>
              </a:rPr>
              <a:t>在齐纳瑞中学的第一天</a:t>
            </a:r>
            <a:endParaRPr b="0" lang="en-US" sz="32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8000" y="1268280"/>
            <a:ext cx="8928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今天真是一个令人即兴奋又紧张的日子，因为这是我在齐纳瑞中学第一天上学。我对所有的事物都好奇，另一方面，由于我以前从来没有类似的经历，所以第一天的学 校生活也非常令人尴尬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我非常不幸，因为在贝尔蒙特（我们所住的镇子），五年级就已经是中学了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₁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。如果诸位读过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小屁孩日记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的话，你们就会知道中学是多么恐怖而糟糕，但事实并不像我想 象的那么差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无论如何，我还是没能赶上校车，所以妈妈和我只好走着去学校。我的心里好像有一只小兔子在不停地跳。一路上非常安静，一个小孩儿也没有碰见，看来别人都已 经到校了。倒霉，真倒霉，第一天上学就迟到了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哦，谢天谢地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!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齐纳瑞的老师们对我还真不错！罗伯女士，我的语言指导老师，一直在校门口等着我；昆先生带着我到了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205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教室 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--- 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本森小姐的班。当我看 见我的新班主任老师本森小姐时，我呆住了。她有着金色的长发，碧蓝色的眼睛，就像一个八年级的同学。真的，她就像我们的一个大姐姐。本森小姐还很时尚，她完 全知道我们小孩儿喜欢什么。我一走进教室，就有一个黑头发的女孩带着我去看我的储物柜。“它是你的啦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!" 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我很惊奇地发现她用熟练的中文对我说。这个女孩就 是我最好的朋友，来自台湾的瑞亚。随后，老师又带我们参观了图书馆、体育馆、礼堂、食堂和其他的教室，但是我还是最喜欢我们的教室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8920" y="764640"/>
            <a:ext cx="8713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我们的教室就像一个舒服的卧室。中央有一块很大的地毯，供我们做在上面读书、玩耍和做游戏。书架上放满了一本本图书和一叠叠纸。还有一个放午餐的冰箱，每 人配一个绿色的储物柜。。。。。。一切都和中国的那么不一样。但是两种我都很喜欢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现在让我告诉你一些尴尬的事情。我下楼梯时，我的同学（盖比）摔了一跤，我问她“你有受伤吗？” 当时我感到非常自豪，因为我终于说出了一句“纯正”的英 文。现在回忆起当时的情景，我说的是多么奇怪的语言呐？真可笑，哪有这么问的！“你有受伤吗？”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再告诉你们另一件尴尬的事吧。中午，同学们带着便当来到了餐厅。要知道，我们十点就吃午餐了，而我却一无所知。我傻乎乎地带着书包来到了食堂，因为看到别的同 学都拿着一个包（午餐盒）。当同学们问我为什么要带书包时，我难堪极了，很不得找个地缝钻进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总而言之，统而言之，第一天的中学生活还是很充实的。这一天中发生了许多好事，也有很多尴尬的事情，第一次总是“小鹿乱撞”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79640" y="6021360"/>
            <a:ext cx="60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注备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₁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：作者就读的美国学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nery Middle School 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是一所实验学校，五年级就是中学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0872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时尚中黑简体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2010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年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1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月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16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日 </a:t>
            </a:r>
            <a:br>
              <a:rPr sz="2000"/>
            </a:b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 小鬼当家</a:t>
            </a:r>
            <a:br>
              <a:rPr sz="2800"/>
            </a:br>
            <a:r>
              <a:rPr b="0" lang="en-US" sz="2800" spc="-1" strike="noStrike">
                <a:solidFill>
                  <a:srgbClr val="602e04"/>
                </a:solidFill>
                <a:latin typeface="时尚中黑简体"/>
              </a:rPr>
              <a:t>                            </a:t>
            </a:r>
            <a:r>
              <a:rPr b="0" lang="en-US" sz="2800" spc="-1" strike="noStrike">
                <a:solidFill>
                  <a:srgbClr val="602e04"/>
                </a:solidFill>
                <a:latin typeface="时尚中黑简体"/>
              </a:rPr>
              <a:t>-- 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吃汤圆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920" y="1483920"/>
            <a:ext cx="864216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妈妈，几点了？”阳光照在我身上了，但我还不想起床。“妈妈？” 我又叫了一声，没有人回答我。我四周望望，房间里又暗又静，到处都没有妈妈的身影。突 然，一阵风掠过，一张纸条从门上飘下来。我好奇地走过去看了看，原来妈妈去上班了，要晚上才能回家。我这几天学校放假，而妈妈还要工作，因此我只能独自在家了。那 就是说今天我要自己做早餐很午餐。我还从来没有做过饭，我即紧张又兴奋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妈妈已经帮我准备好了早餐，就在桌子上了。我慢悠悠地吃着早餐，然后就一边玩，一边学习了。几个小时以后，我就饿了，肚子“咕噜咕噜”地叫唤。我看了看表，已 经十二点半了。时间过的可真快啊，它也再回不去了。现在是中午，是吃午餐的时间了，我的工作也该开始了。我打开冰箱，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! 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白菜、水果、肉，这么多美味佳 肴。我恨不得现在就把它们消灭，因为我实在太饿了。但是，我不知道怎么做饭。终于我发现了一些速冻小汤圆，我高兴得像一只骆驼忽然在沙漠中找到了水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dministrator\桌面\ZCOOL_Floral Templates2.jpg"/>
          <p:cNvPicPr/>
          <p:nvPr/>
        </p:nvPicPr>
        <p:blipFill>
          <a:blip r:embed="rId1"/>
          <a:srcRect l="0" t="0" r="4479" b="0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1672920" y="3000240"/>
            <a:ext cx="367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02e04"/>
                </a:solidFill>
                <a:latin typeface="Calibri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830240" y="42004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6:20:31Z</dcterms:created>
  <dc:creator/>
  <dc:description/>
  <cp:keywords/>
  <dc:language>en-US</dc:language>
  <cp:lastModifiedBy>Mary Simone</cp:lastModifiedBy>
  <cp:lastPrinted>1899-12-30T00:00:00Z</cp:lastPrinted>
  <dcterms:modified xsi:type="dcterms:W3CDTF">2012-07-03T10:58:41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